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86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E6E20-0B3F-4D95-8229-0FF101DA1BEF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F9CA2-BC66-426B-A185-E2BD82ED0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BA072-107C-428E-9661-466204DAC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A0963C-9052-4074-AEE9-608B2C649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618687-37AE-49F8-9A96-FDA9F1AD5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3525CA-0363-439B-BD9E-52CB88BB5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3F60D5-C512-4D26-A9B5-F03DB0985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16D6D6-AEB0-4389-896D-867CDEDDB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3E54A0-D6F2-44AD-87B9-8BC142517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93334D-1C4A-4D65-B3DD-93976271C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A5C064-8864-48B9-B5FD-01F128F4E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4BBA78-C7B6-413E-BB10-D74AD4E0F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EDA6EF-81E1-4B3F-875C-B33443111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A60A5-1907-45F7-9DF0-926889B69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0F374B-F00C-460C-837A-CC9111C82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693B73-2B60-4933-963A-907832AEB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4B0935-8CAD-4427-ACCF-BD71807AB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F8CCFA-7F9F-461F-871F-F4CC72585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FAB908-24C9-4F05-8AEF-580D2CAA6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31C064-F959-4607-8759-FA356FAD4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FCDB19-5D21-48A9-B20B-CBA04A7DD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77209A-9393-4271-BDDF-1261AD435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7CED3F-2F65-4C91-89C7-F73415E6B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A3C9D3-7B0A-4CAA-8B70-9B1771C8B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19F6A-837A-4055-81DE-AB2FD1432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1B639F-D94F-4DC1-9EF5-144DA16B0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63AF09-170D-4B6B-8671-8EB0FB853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66A989-15D2-4356-8B60-E059B0956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D850CE-43FA-495A-8F4D-4DFB97FD2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885D1F-4D4B-4264-9323-E41488155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4234E9-D7E6-498E-9381-EF2C37F52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F8949D-AF5F-40FE-A8EF-71D969FAC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3BC7E0-BEF9-4AC9-8CA7-3C5D48C53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76F698-944C-48ED-B42A-FD8E29687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BA93F8-8ADB-4365-96CE-388A1D304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75871-5BD4-415E-8D59-51DEC7B60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174110-E4E1-4A3B-89A5-E63349EEF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BAEF75-8BEB-4B5F-9ED1-6C5FD2C08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487571-44E2-4608-833F-B5EEE1DA0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53C2D1-1BED-4E25-BE52-9E5E8D1E2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3EC28B-183C-48A1-9458-807C3066D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96DED5-9FB6-4285-8568-9EB85D09B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0FE1EE-B4F9-4A50-9F79-5B2DF9AD6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9E6B34-F79A-4AF9-BE3C-7770CD2EC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9D79BD-917E-4083-93FB-39D91750D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9EF1D5-40A3-4080-9FE1-C9F7B2211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45B9F-ACFF-4148-BB61-6CFD1B17A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BA019C-AB39-4A81-924D-2755F167A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B47EEB-4EC0-4CE2-8BE7-0D6E3FFD6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6B4644-73EB-4138-9B51-E781DC876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6CA6C8-15F2-4729-8CD9-F85E19FF8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8BD3A5-D1D7-429A-89B1-B32CA637A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A768284-6327-4921-86D8-5FAD396DB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8832BE5-835C-41E8-84FD-EADFE2BAD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609F813-249B-4980-8C7C-93B0A22F1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325A298-CC3E-4C6A-8084-781525122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C25104D-9A1F-47DC-873C-631FCA3D0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8300D-7070-4B0E-8178-C7FA7F435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281867C-F3C3-400F-91CC-38E8B8B70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1095509-4E3C-48E9-9667-B8CB48B09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96FF4B4-F648-498C-BD93-5D2BD0480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4DB444D-583E-4C42-B0EC-3575F991F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B098833-F204-4414-BC67-8D73ACF5E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3FAAE90-3B58-49F7-BEF6-EAC9FD95C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BC56DBC-DBE7-45CB-9942-082A27CF8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D1455-3D67-4F57-B892-95F4BC64B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7FBE6-EA5C-4E84-851D-334CE878F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15489-F1C6-426E-A238-ECBD86830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B4566-C9A8-4B99-8DBD-3151DAA3E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D0C24-70B0-4A0D-9E3A-A5F9CE46B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5E2A5-4B47-47EB-B3C8-A5993DB77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DB758-1CFA-4CFA-B1AA-D650C6E48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D0166-9874-4167-9BD4-1581118B3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0C837-89AF-426A-8AC1-74973B93D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CB6AC-AE1F-4DEC-96C6-343E88462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52E38A-534A-401D-BAE5-64E658ABA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5C7392-A9EA-4A18-A2EC-55EB27E9A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391983-2A87-4E93-BFB4-60A1BF7AE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8F0568-A3A1-42EC-8D5F-7E7861293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803F59-3F12-4368-95AC-2B914E456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0E826-992F-4E21-96D5-6213A98D8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E2CDFE-C1EE-44E2-9994-FE1F2D6AB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F4578E-A7C4-41B4-B46E-6F7EBA684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1CAEEE-6672-41F8-BFE1-4C53EA209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9123A4-085F-44D9-8C3E-DE0F6F0C6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24A1C3-FF39-428E-A837-716EBC0A8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774CD2-E498-47AF-8C14-E316C39CE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B9B97B-453F-43A3-8223-1980420FE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3F8530-3C32-4523-A26F-9F67E05F5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21C931-4132-452F-BCEC-3636F1509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D4271B-36CE-4361-9F3C-F53C725F0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AE28A-92DF-457A-AE27-68D3532EE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DB16FF-9DC7-452F-9925-016FEC4FF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4B152F-2F04-4B6C-AFAF-3724984CC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F9F34E-D469-4F45-837A-455A1CFCD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AFC368-D5A2-4205-B2B5-5A9015523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C07282-496F-4B7A-ADFF-B00AF3A24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1B9A68-55FC-4E3C-AD8C-14DEEF666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2ED027-DB6A-44D3-8CCB-6A7CD614A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F32380-6EB7-488E-94AC-A9FDF18B0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1022CB-FC00-4530-AF84-EE340E41D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FEF065-CDED-43B8-8AC5-EAA2D4814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E5D6B-6D04-4B0A-AD7F-5A9DB338C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F02E68-7EE4-471C-B614-35B2D824F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A19C98-99AA-4CB4-B7A1-CD81D46BE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92F2D2-2436-4A7A-A31B-954252486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AFC5FE-8B2E-4A45-AEA8-C982C3A49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9F5B2B-C556-4037-B692-344B5B7AA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BA698D-E582-43E8-9ABF-2D185C86A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5F1B6B-8EB6-47C1-B328-C605C56F9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1C65D8-3A34-4B11-AF4D-A5A7D9274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9C4CC2-0A83-493C-8ABC-F0568C4BA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A0B84C-5C8F-46E5-97DB-5DBFBC34C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9B32C-EF57-4548-8B75-12077929A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90B5AB-81FA-4012-BAA8-7778422D5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5717A64-5FC2-4791-BABB-B849DC328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0AB57E9-CB4A-4DF3-8548-0CE67460F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63E35C9-EAF5-487F-A124-606F5D75C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703D060-C7DD-4A9E-8D42-48639600B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A58F0BE-0D96-4426-AA81-A1585452A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A2895BB-EB75-4779-A5C3-CC7E36D91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AF47ECA-9178-4C8D-AC05-303AD2FED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8C0824C-EB28-4D35-9235-FC60DC763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BE979AE-8884-4222-8FCF-25532E5EF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953A0-A84E-4022-932B-2D8391A6D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B625DFC-8F11-4FE8-872E-09F8359AD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23773A7-D440-4D0D-BE03-3697C75BB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B5A29FE-D0BB-46C5-882A-03A6A5109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5A8DD0-92A2-44CD-B1E8-CE3C6D625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F820FE-3844-47C5-96D9-662CEED74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344288-B9BC-4CC0-A972-34E3EC18C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D829A7-490A-40B9-B851-24771067E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783E68-43EE-4792-B3A6-A99717F0D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C5482C-BDBA-4D3F-9639-E360E4825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597AE3-BBBE-406B-B64A-2EB3FD48E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DD613-5678-4F73-BDC5-B32B69682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953E36-7323-4E3F-968A-9A9B54132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9B66CF-92B6-436F-884C-980009255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0E7FA1-5B9F-4A16-9803-8D23BE83F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2FB8A6-4904-47E8-A036-FB624F073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F51959-1135-4D8C-82D7-0AB94B2E0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A855A6-8B86-445B-B17D-77F736F22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399531-CECF-4A77-8870-FD78DC9EE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6D8632-D78B-4105-9362-39A0F7FD6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608270-86FE-490D-8363-1E96E3615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0FB62F-9581-4D6B-B421-369C39116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EABD6-2D3F-4D84-8F38-94D5BAFA1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F26048-0A19-4919-8331-B640B3F87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6A575F-E3A5-4F74-A98C-A42E682CF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83E8AC-D66F-45EE-BDA8-D16998F1D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08828D-0C8E-4C62-939F-A636B38E8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FEBEF0-092B-42E7-BD12-B4FEA5CA6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867053-9786-436D-8165-C2F47754D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F9E1A7-828C-45E7-8750-C27D245F3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8F499C-D3CB-4D34-A07D-63D91D8D6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BF76DB-AFFF-4472-A62D-8AE77346A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ACAD0E-42F0-436E-8BD6-59BA57CB3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3B932-C364-4BC3-B6F4-222C42D23D3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8FB28-947C-4329-B5AD-59CAEEB5974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E652F-102F-4D41-A65A-898D2CE7AA9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B41E2-C2B4-4A98-B5DB-58DE2B3B93B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691B7-70A4-4A67-82CC-71C50E18580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0D95B-3383-4BB0-BE36-CF5A88771EC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BBC4C-C4AD-4DF9-9EF7-0E14920B7AC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76EAE-ADD4-406F-A277-5F8D00C00CA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3BEB2-3506-461A-A586-DE7641A449D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06EBF-C004-4F92-B349-CA6E1D01F76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F53AD-1C20-4ACA-B3CA-537FA1E37F0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DBB59-87AB-445D-BE65-F0A47050280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D6804-3F91-4CF9-8F8D-921E939B935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18"/>
          <p:cNvGrpSpPr/>
          <p:nvPr/>
        </p:nvGrpSpPr>
        <p:grpSpPr>
          <a:xfrm>
            <a:off x="357120" y="2357280"/>
            <a:ext cx="3143160" cy="3357000"/>
            <a:chOff x="357120" y="2357280"/>
            <a:chExt cx="3143160" cy="3357000"/>
          </a:xfrm>
        </p:grpSpPr>
        <p:grpSp>
          <p:nvGrpSpPr>
            <p:cNvPr id="768" name="그룹 55"/>
            <p:cNvGrpSpPr/>
            <p:nvPr/>
          </p:nvGrpSpPr>
          <p:grpSpPr>
            <a:xfrm>
              <a:off x="384480" y="2357280"/>
              <a:ext cx="3080880" cy="3357000"/>
              <a:chOff x="384480" y="2357280"/>
              <a:chExt cx="3080880" cy="3357000"/>
            </a:xfrm>
          </p:grpSpPr>
          <p:grpSp>
            <p:nvGrpSpPr>
              <p:cNvPr id="769" name="Group 92"/>
              <p:cNvGrpSpPr/>
              <p:nvPr/>
            </p:nvGrpSpPr>
            <p:grpSpPr>
              <a:xfrm>
                <a:off x="384480" y="2357280"/>
                <a:ext cx="3080880" cy="3357000"/>
                <a:chOff x="384480" y="2357280"/>
                <a:chExt cx="3080880" cy="3357000"/>
              </a:xfrm>
            </p:grpSpPr>
            <p:sp>
              <p:nvSpPr>
                <p:cNvPr id="770" name="AutoShape 93"/>
                <p:cNvSpPr/>
                <p:nvPr/>
              </p:nvSpPr>
              <p:spPr>
                <a:xfrm>
                  <a:off x="384480" y="2357280"/>
                  <a:ext cx="3080880" cy="3357000"/>
                </a:xfrm>
                <a:custGeom>
                  <a:avLst/>
                  <a:gdLst>
                    <a:gd name="textAreaLeft" fmla="*/ 150120 w 3080880"/>
                    <a:gd name="textAreaRight" fmla="*/ 2930760 w 3080880"/>
                    <a:gd name="textAreaTop" fmla="*/ 150120 h 3357000"/>
                    <a:gd name="textAreaBottom" fmla="*/ 3206880 h 3357000"/>
                  </a:gdLst>
                  <a:ahLst/>
                  <a:rect l="textAreaLeft" t="textAreaTop" r="textAreaRight" b="textAreaBottom"/>
                  <a:pathLst>
                    <a:path w="21600" h="23536">
                      <a:moveTo>
                        <a:pt x="3600" y="0"/>
                      </a:moveTo>
                      <a:arcTo wR="3600" hR="3600" stAng="16200000" swAng="-5400000"/>
                      <a:lnTo>
                        <a:pt x="0" y="19936"/>
                      </a:lnTo>
                      <a:arcTo wR="3600" hR="3600" stAng="10800000" swAng="-5400000"/>
                      <a:lnTo>
                        <a:pt x="18000" y="23536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002060"/>
                </a:solidFill>
                <a:ln w="9360">
                  <a:solidFill>
                    <a:srgbClr val="a04da3"/>
                  </a:solidFill>
                  <a:miter/>
                </a:ln>
                <a:effectLst>
                  <a:outerShdw dist="12600" dir="5400000" blurRad="0" rotWithShape="0">
                    <a:srgbClr val="000000">
                      <a:alpha val="4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1" name="Rectangle 94"/>
                <p:cNvSpPr/>
                <p:nvPr/>
              </p:nvSpPr>
              <p:spPr>
                <a:xfrm>
                  <a:off x="384480" y="2357280"/>
                  <a:ext cx="570600" cy="1566720"/>
                </a:xfrm>
                <a:prstGeom prst="rect">
                  <a:avLst/>
                </a:prstGeom>
                <a:solidFill>
                  <a:srgbClr val="002060"/>
                </a:solidFill>
                <a:ln w="0">
                  <a:noFill/>
                </a:ln>
                <a:effectLst>
                  <a:outerShdw dist="12600" dir="5400000" blurRad="0" rotWithShape="0">
                    <a:srgbClr val="000000">
                      <a:alpha val="4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72" name="Group 95"/>
              <p:cNvGrpSpPr/>
              <p:nvPr/>
            </p:nvGrpSpPr>
            <p:grpSpPr>
              <a:xfrm>
                <a:off x="455760" y="2441160"/>
                <a:ext cx="2939760" cy="3217680"/>
                <a:chOff x="455760" y="2441160"/>
                <a:chExt cx="2939760" cy="3217680"/>
              </a:xfrm>
            </p:grpSpPr>
            <p:sp>
              <p:nvSpPr>
                <p:cNvPr id="773" name="AutoShape 96"/>
                <p:cNvSpPr/>
                <p:nvPr/>
              </p:nvSpPr>
              <p:spPr>
                <a:xfrm>
                  <a:off x="455760" y="2441160"/>
                  <a:ext cx="2939760" cy="3217680"/>
                </a:xfrm>
                <a:custGeom>
                  <a:avLst/>
                  <a:gdLst>
                    <a:gd name="textAreaLeft" fmla="*/ 143280 w 2939760"/>
                    <a:gd name="textAreaRight" fmla="*/ 2796480 w 2939760"/>
                    <a:gd name="textAreaTop" fmla="*/ 143280 h 3217680"/>
                    <a:gd name="textAreaBottom" fmla="*/ 3074400 h 3217680"/>
                  </a:gdLst>
                  <a:ahLst/>
                  <a:rect l="textAreaLeft" t="textAreaTop" r="textAreaRight" b="textAreaBottom"/>
                  <a:pathLst>
                    <a:path w="21600" h="23642">
                      <a:moveTo>
                        <a:pt x="3600" y="0"/>
                      </a:moveTo>
                      <a:arcTo wR="3600" hR="3600" stAng="16200000" swAng="-5400000"/>
                      <a:lnTo>
                        <a:pt x="0" y="20042"/>
                      </a:lnTo>
                      <a:arcTo wR="3600" hR="3600" stAng="10800000" swAng="-5400000"/>
                      <a:lnTo>
                        <a:pt x="18000" y="23642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4" name="Rectangle 97"/>
                <p:cNvSpPr/>
                <p:nvPr/>
              </p:nvSpPr>
              <p:spPr>
                <a:xfrm>
                  <a:off x="455760" y="2441160"/>
                  <a:ext cx="544680" cy="14871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75" name="Line 98"/>
              <p:cNvSpPr/>
              <p:nvPr/>
            </p:nvSpPr>
            <p:spPr>
              <a:xfrm>
                <a:off x="594360" y="3143160"/>
                <a:ext cx="2637720" cy="0"/>
              </a:xfrm>
              <a:prstGeom prst="line">
                <a:avLst/>
              </a:prstGeom>
              <a:ln w="12600">
                <a:solidFill>
                  <a:srgbClr val="783a7a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776" name="직사각형 5" descr=""/>
            <p:cNvPicPr/>
            <p:nvPr/>
          </p:nvPicPr>
          <p:blipFill>
            <a:blip r:embed="rId2"/>
            <a:stretch/>
          </p:blipFill>
          <p:spPr>
            <a:xfrm>
              <a:off x="428760" y="2401560"/>
              <a:ext cx="2139480" cy="1054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7" name="직사각형 6" descr=""/>
            <p:cNvPicPr/>
            <p:nvPr/>
          </p:nvPicPr>
          <p:blipFill>
            <a:blip r:embed="rId3"/>
            <a:stretch/>
          </p:blipFill>
          <p:spPr>
            <a:xfrm>
              <a:off x="357120" y="3315960"/>
              <a:ext cx="3143160" cy="1719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78" name="직사각형 45"/>
          <p:cNvSpPr/>
          <p:nvPr/>
        </p:nvSpPr>
        <p:spPr>
          <a:xfrm>
            <a:off x="5031360" y="2344680"/>
            <a:ext cx="210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특수 아동의 유형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직사각형 45"/>
          <p:cNvSpPr/>
          <p:nvPr/>
        </p:nvSpPr>
        <p:spPr>
          <a:xfrm>
            <a:off x="5134320" y="3267000"/>
            <a:ext cx="228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미국 장애인 교육법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직사각형 45"/>
          <p:cNvSpPr/>
          <p:nvPr/>
        </p:nvSpPr>
        <p:spPr>
          <a:xfrm>
            <a:off x="4837320" y="4187880"/>
            <a:ext cx="139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교수 전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2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9A7E9-24ED-442F-9E8C-3D195D3AB92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3" name="TextBox 9" descr=""/>
          <p:cNvPicPr/>
          <p:nvPr/>
        </p:nvPicPr>
        <p:blipFill>
          <a:blip r:embed="rId1"/>
          <a:stretch/>
        </p:blipFill>
        <p:spPr>
          <a:xfrm>
            <a:off x="5175360" y="506520"/>
            <a:ext cx="3724200" cy="59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84" name=""/>
          <p:cNvGraphicFramePr/>
          <p:nvPr/>
        </p:nvGraphicFramePr>
        <p:xfrm>
          <a:off x="714240" y="3214800"/>
          <a:ext cx="7858440" cy="3132000"/>
        </p:xfrm>
        <a:graphic>
          <a:graphicData uri="http://schemas.openxmlformats.org/drawingml/2006/table">
            <a:tbl>
              <a:tblPr/>
              <a:tblGrid>
                <a:gridCol w="1546200"/>
                <a:gridCol w="6312240"/>
              </a:tblGrid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범  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ed3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설  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ed3e1"/>
                    </a:solidFill>
                  </a:tcPr>
                </a:tc>
              </a:tr>
              <a:tr h="688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영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능이 평균 이상이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특정 분야에서 탁월한 재능을 보이는 학습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신지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능이 평균보다 유의하게 낮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IQ 70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이하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,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적응행동 결손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즉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실용적 및 사회적 지능이 있는 장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습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능이 평균보다 높지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특정 교과의 학습이나 인지과정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예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;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각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언어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기억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메타인지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에 문제가 있는 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ADH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주의력결핍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과잉활동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충동성 등의 특징을 갖고 있는 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85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B639A-E234-4B6B-963B-B44BF9E1D6B3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6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787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788" name="직사각형 14"/>
              <p:cNvSpPr/>
              <p:nvPr/>
            </p:nvSpPr>
            <p:spPr>
              <a:xfrm>
                <a:off x="1468440" y="1386000"/>
                <a:ext cx="1465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특수학습자의 유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9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2" name="Freeform 5"/>
              <p:cNvGrpSpPr/>
              <p:nvPr/>
            </p:nvGrpSpPr>
            <p:grpSpPr>
              <a:xfrm>
                <a:off x="688680" y="1407600"/>
                <a:ext cx="170640" cy="176760"/>
                <a:chOff x="688680" y="1407600"/>
                <a:chExt cx="170640" cy="176760"/>
              </a:xfrm>
            </p:grpSpPr>
            <p:pic>
              <p:nvPicPr>
                <p:cNvPr id="79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4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5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6" name="그룹 43"/>
          <p:cNvGrpSpPr/>
          <p:nvPr/>
        </p:nvGrpSpPr>
        <p:grpSpPr>
          <a:xfrm>
            <a:off x="571680" y="1876320"/>
            <a:ext cx="8072280" cy="1452240"/>
            <a:chOff x="571680" y="1876320"/>
            <a:chExt cx="8072280" cy="1452240"/>
          </a:xfrm>
        </p:grpSpPr>
        <p:pic>
          <p:nvPicPr>
            <p:cNvPr id="797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12020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798" name="타원 18"/>
            <p:cNvGrpSpPr/>
            <p:nvPr/>
          </p:nvGrpSpPr>
          <p:grpSpPr>
            <a:xfrm>
              <a:off x="859680" y="2157840"/>
              <a:ext cx="225360" cy="231480"/>
              <a:chOff x="859680" y="2157840"/>
              <a:chExt cx="225360" cy="231480"/>
            </a:xfrm>
          </p:grpSpPr>
          <p:pic>
            <p:nvPicPr>
              <p:cNvPr id="799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57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0" name=""/>
              <p:cNvSpPr/>
              <p:nvPr/>
            </p:nvSpPr>
            <p:spPr>
              <a:xfrm rot="10800000">
                <a:off x="943200" y="221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1" name="직사각형 19"/>
            <p:cNvSpPr/>
            <p:nvPr/>
          </p:nvSpPr>
          <p:spPr>
            <a:xfrm>
              <a:off x="928800" y="2000160"/>
              <a:ext cx="7669080" cy="13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수학습자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exceptional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learner)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능력이 특별히 높거나 반대로 능력이 특별히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낮은 학습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서 및 행동의 측면에서 정상범주에서 이탈된 학습자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TextBox 9" descr=""/>
          <p:cNvPicPr/>
          <p:nvPr/>
        </p:nvPicPr>
        <p:blipFill>
          <a:blip r:embed="rId1"/>
          <a:stretch/>
        </p:blipFill>
        <p:spPr>
          <a:xfrm>
            <a:off x="5181480" y="506520"/>
            <a:ext cx="3597480" cy="59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03" name=""/>
          <p:cNvGraphicFramePr/>
          <p:nvPr/>
        </p:nvGraphicFramePr>
        <p:xfrm>
          <a:off x="635040" y="1928880"/>
          <a:ext cx="7873920" cy="4513320"/>
        </p:xfrm>
        <a:graphic>
          <a:graphicData uri="http://schemas.openxmlformats.org/drawingml/2006/table">
            <a:tbl>
              <a:tblPr/>
              <a:tblGrid>
                <a:gridCol w="1650960"/>
                <a:gridCol w="6222960"/>
              </a:tblGrid>
              <a:tr h="37152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범  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ed3e1"/>
                    </a:solidFill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설  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ed3e1"/>
                    </a:solidFill>
                  </a:tcPr>
                </a:tc>
              </a:tr>
              <a:tr h="68904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말하기 및 소통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업수행을 심각하게 방해하는 말 혹은 언어이해의 손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서 및 행동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장기간 지속되고 학업을 심각하게 방해하는 정서 혹은 행동 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폐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적 상호작용 및 소통의 손상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반복적인 행동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한정된 흥미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예측가능한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환경에 대한 강박적인 요구를 특징으로 하는 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신체 및 건강 손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제한된 에너지와 활력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신적 민감성의 둔화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근육의 통제 결여 중 하나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이상의 특징을 갖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있는 신체 혹은 의학적 조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시각 손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상적인 시지각을 방해하는 눈 혹은 시신경의 기능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84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청각 상실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상적인 말의 빈도 범위에서 소리지각을 방해하는 귀 혹은 관련 신경의 기능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04" name="슬라이드 번호 개체 틀 4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2809A-2978-4017-B572-14A4A5F7600D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5" name="TextBox 9" descr=""/>
          <p:cNvPicPr/>
          <p:nvPr/>
        </p:nvPicPr>
        <p:blipFill>
          <a:blip r:embed="rId1"/>
          <a:stretch/>
        </p:blipFill>
        <p:spPr>
          <a:xfrm>
            <a:off x="5218200" y="506520"/>
            <a:ext cx="3681360" cy="590400"/>
          </a:xfrm>
          <a:prstGeom prst="rect">
            <a:avLst/>
          </a:prstGeom>
          <a:ln w="0">
            <a:noFill/>
          </a:ln>
        </p:spPr>
      </p:pic>
      <p:sp>
        <p:nvSpPr>
          <p:cNvPr id="806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114C6-BB8F-40A2-BEDC-A2448FCA9932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7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08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09" name="직사각형 14"/>
              <p:cNvSpPr/>
              <p:nvPr/>
            </p:nvSpPr>
            <p:spPr>
              <a:xfrm>
                <a:off x="1504080" y="1386000"/>
                <a:ext cx="1596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미국 장애인 교육법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1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13" name="Freeform 5"/>
              <p:cNvGrpSpPr/>
              <p:nvPr/>
            </p:nvGrpSpPr>
            <p:grpSpPr>
              <a:xfrm>
                <a:off x="688680" y="1407600"/>
                <a:ext cx="170640" cy="176760"/>
                <a:chOff x="688680" y="1407600"/>
                <a:chExt cx="170640" cy="176760"/>
              </a:xfrm>
            </p:grpSpPr>
            <p:pic>
              <p:nvPicPr>
                <p:cNvPr id="81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5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16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7" name="그룹 43"/>
          <p:cNvGrpSpPr/>
          <p:nvPr/>
        </p:nvGrpSpPr>
        <p:grpSpPr>
          <a:xfrm>
            <a:off x="571680" y="1876320"/>
            <a:ext cx="8072280" cy="695520"/>
            <a:chOff x="571680" y="1876320"/>
            <a:chExt cx="8072280" cy="695520"/>
          </a:xfrm>
        </p:grpSpPr>
        <p:pic>
          <p:nvPicPr>
            <p:cNvPr id="818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695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19" name="타원 18"/>
            <p:cNvGrpSpPr/>
            <p:nvPr/>
          </p:nvGrpSpPr>
          <p:grpSpPr>
            <a:xfrm>
              <a:off x="859680" y="2157840"/>
              <a:ext cx="225360" cy="231480"/>
              <a:chOff x="859680" y="2157840"/>
              <a:chExt cx="225360" cy="231480"/>
            </a:xfrm>
          </p:grpSpPr>
          <p:pic>
            <p:nvPicPr>
              <p:cNvPr id="820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57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1" name=""/>
              <p:cNvSpPr/>
              <p:nvPr/>
            </p:nvSpPr>
            <p:spPr>
              <a:xfrm rot="10800000">
                <a:off x="943200" y="221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2" name="직사각형 19"/>
            <p:cNvSpPr/>
            <p:nvPr/>
          </p:nvSpPr>
          <p:spPr>
            <a:xfrm>
              <a:off x="928800" y="200016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1975</a:t>
              </a:r>
              <a:r>
                <a:rPr b="0" lang="ko-KR" sz="1800" spc="-1" strike="noStrike">
                  <a:solidFill>
                    <a:srgbClr val="000000"/>
                  </a:solidFill>
                  <a:latin typeface="HY바다M"/>
                  <a:ea typeface="휴먼모음T"/>
                </a:rPr>
                <a:t>년 장애 학생이 무상 공교육을 받을 수 있도록 제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3" name="직사각형 16"/>
          <p:cNvSpPr/>
          <p:nvPr/>
        </p:nvSpPr>
        <p:spPr>
          <a:xfrm>
            <a:off x="285840" y="2890800"/>
            <a:ext cx="8572320" cy="30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44640" indent="-4953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무상의 적절한 공교육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Free Appropriate Public Education: FAP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모든 학생에게 무상으로 적절한 공교육 제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적절한 교육 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정인에게 교육적 수혜를 제공하기 위해 특별히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    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개별적으로 고안된 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44640" indent="-4953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소한으로 제한된 환경 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통합을 향한 변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주류화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Mainstreaming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의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소한의 선택된 활동만을 위해서라도 특수학생들을 분리된 학급에서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규 학급으로 이동시키는 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문제점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수학생 등이 종종 필요한 조력을 받을 수 없는 교실에 배치됨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4" name="TextBox 9" descr=""/>
          <p:cNvPicPr/>
          <p:nvPr/>
        </p:nvPicPr>
        <p:blipFill>
          <a:blip r:embed="rId1"/>
          <a:stretch/>
        </p:blipFill>
        <p:spPr>
          <a:xfrm>
            <a:off x="5218200" y="506520"/>
            <a:ext cx="3681360" cy="590400"/>
          </a:xfrm>
          <a:prstGeom prst="rect">
            <a:avLst/>
          </a:prstGeom>
          <a:ln w="0">
            <a:noFill/>
          </a:ln>
        </p:spPr>
      </p:pic>
      <p:sp>
        <p:nvSpPr>
          <p:cNvPr id="825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331C7-3859-4D3A-ABDD-D08490564088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직사각형 16"/>
          <p:cNvSpPr/>
          <p:nvPr/>
        </p:nvSpPr>
        <p:spPr>
          <a:xfrm>
            <a:off x="142920" y="1857240"/>
            <a:ext cx="8929800" cy="34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44640" indent="-4953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소한으로 제한된 환경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Least Restrictive Environment : LRE)</a:t>
            </a:r>
            <a:r>
              <a:rPr b="0" lang="en-US" sz="17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주류화의 문제점에 대한 대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buClr>
                <a:srgbClr val="424456"/>
              </a:buClr>
              <a:buFont typeface="휴먼모음T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수학생들의 특수한 욕구를 만족시키면서 가능한 한 일반학교에 배치하는 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전일제로 일반학급에 배치하는 것으로부터 분리 시설에 수용하는 것까지의 연속상의 서비스로 구성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적응적 일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생이 특정학교에서 요구를 충족시킬 수 있는 정도와 학교가 욕구를 충족시킬 수 있는 정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LRE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의 중심 개념으로 특수학생의 교육을 위한 개별화 접근을 중시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7" name="TextBox 9" descr=""/>
          <p:cNvPicPr/>
          <p:nvPr/>
        </p:nvPicPr>
        <p:blipFill>
          <a:blip r:embed="rId1"/>
          <a:stretch/>
        </p:blipFill>
        <p:spPr>
          <a:xfrm>
            <a:off x="6291360" y="506520"/>
            <a:ext cx="2603520" cy="590400"/>
          </a:xfrm>
          <a:prstGeom prst="rect">
            <a:avLst/>
          </a:prstGeom>
          <a:ln w="0">
            <a:noFill/>
          </a:ln>
        </p:spPr>
      </p:pic>
      <p:sp>
        <p:nvSpPr>
          <p:cNvPr id="828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63768-8F6A-4E86-A100-51D81A04C0AC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9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30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31" name="직사각형 14"/>
              <p:cNvSpPr/>
              <p:nvPr/>
            </p:nvSpPr>
            <p:spPr>
              <a:xfrm>
                <a:off x="1051920" y="1386000"/>
                <a:ext cx="3734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통합 학급에서의 교사 역할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2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3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35" name="Freeform 5"/>
              <p:cNvGrpSpPr/>
              <p:nvPr/>
            </p:nvGrpSpPr>
            <p:grpSpPr>
              <a:xfrm>
                <a:off x="688680" y="1407600"/>
                <a:ext cx="170640" cy="176760"/>
                <a:chOff x="688680" y="1407600"/>
                <a:chExt cx="170640" cy="176760"/>
              </a:xfrm>
            </p:grpSpPr>
            <p:pic>
              <p:nvPicPr>
                <p:cNvPr id="836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37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38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9" name="그룹 43"/>
          <p:cNvGrpSpPr/>
          <p:nvPr/>
        </p:nvGrpSpPr>
        <p:grpSpPr>
          <a:xfrm>
            <a:off x="571680" y="1857240"/>
            <a:ext cx="8072280" cy="714600"/>
            <a:chOff x="571680" y="1857240"/>
            <a:chExt cx="8072280" cy="714600"/>
          </a:xfrm>
        </p:grpSpPr>
        <p:pic>
          <p:nvPicPr>
            <p:cNvPr id="840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57240"/>
              <a:ext cx="8072280" cy="7146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41" name="타원 18"/>
            <p:cNvGrpSpPr/>
            <p:nvPr/>
          </p:nvGrpSpPr>
          <p:grpSpPr>
            <a:xfrm>
              <a:off x="859680" y="2139480"/>
              <a:ext cx="225360" cy="231480"/>
              <a:chOff x="859680" y="2139480"/>
              <a:chExt cx="225360" cy="231480"/>
            </a:xfrm>
          </p:grpSpPr>
          <p:pic>
            <p:nvPicPr>
              <p:cNvPr id="842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3" name=""/>
              <p:cNvSpPr/>
              <p:nvPr/>
            </p:nvSpPr>
            <p:spPr>
              <a:xfrm rot="10800000">
                <a:off x="942840" y="21956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44" name="직사각형 19"/>
            <p:cNvSpPr/>
            <p:nvPr/>
          </p:nvSpPr>
          <p:spPr>
            <a:xfrm>
              <a:off x="857160" y="19810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HY바다M"/>
                  <a:ea typeface="휴먼모음T"/>
                </a:rPr>
                <a:t>특수 학생 변별하기 및 가르치기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5" name="직사각형 16"/>
          <p:cNvSpPr/>
          <p:nvPr/>
        </p:nvSpPr>
        <p:spPr>
          <a:xfrm>
            <a:off x="285840" y="2786040"/>
            <a:ext cx="8572320" cy="390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380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수전략 원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모든 학생들의 학습을 증진시틸 효과적 교수방법 사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과 관련된 추가적인 지원 제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수학생의 필요에 맞는 수업 활동 및 과제 설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 욕구 충족 위한 조정된 독서 자료 준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전략을  적극적으로 가르칠 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수학생들의 성장과 교실 내 통합을 위한 계획 실행</a:t>
            </a:r>
            <a:br>
              <a:rPr sz="1800"/>
            </a:br>
            <a:r>
              <a:rPr b="0" lang="ko-KR" sz="1800" spc="-1" strike="noStrike">
                <a:solidFill>
                  <a:srgbClr val="000000"/>
                </a:solidFill>
                <a:latin typeface="휴먼모음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수지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과 관련된 추가적인 지원 제공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&lt;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예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&gt;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전체 학생이 제자리에서 개별 과제 수행 시에도 교사가 개인적으로 혹은 소그룹 학생과 과제 수행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튜터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추가적인 조정사항의 예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&lt;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5.4&gt; p. 2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6" name="TextBox 9" descr=""/>
          <p:cNvPicPr/>
          <p:nvPr/>
        </p:nvPicPr>
        <p:blipFill>
          <a:blip r:embed="rId1"/>
          <a:stretch/>
        </p:blipFill>
        <p:spPr>
          <a:xfrm>
            <a:off x="6291360" y="506520"/>
            <a:ext cx="2603520" cy="590400"/>
          </a:xfrm>
          <a:prstGeom prst="rect">
            <a:avLst/>
          </a:prstGeom>
          <a:ln w="0">
            <a:noFill/>
          </a:ln>
        </p:spPr>
      </p:pic>
      <p:sp>
        <p:nvSpPr>
          <p:cNvPr id="847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86E6B-FAA3-4A61-85C4-EE24B091D4D8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8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49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50" name="직사각형 14"/>
              <p:cNvSpPr/>
              <p:nvPr/>
            </p:nvSpPr>
            <p:spPr>
              <a:xfrm>
                <a:off x="1051920" y="1386000"/>
                <a:ext cx="3734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통합 학급에서의 교사 역할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1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5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54" name="Freeform 5"/>
              <p:cNvGrpSpPr/>
              <p:nvPr/>
            </p:nvGrpSpPr>
            <p:grpSpPr>
              <a:xfrm>
                <a:off x="688680" y="1407600"/>
                <a:ext cx="170640" cy="176760"/>
                <a:chOff x="688680" y="1407600"/>
                <a:chExt cx="170640" cy="176760"/>
              </a:xfrm>
            </p:grpSpPr>
            <p:pic>
              <p:nvPicPr>
                <p:cNvPr id="85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6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57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8" name="그룹 43"/>
          <p:cNvGrpSpPr/>
          <p:nvPr/>
        </p:nvGrpSpPr>
        <p:grpSpPr>
          <a:xfrm>
            <a:off x="571680" y="1857240"/>
            <a:ext cx="8072280" cy="714600"/>
            <a:chOff x="571680" y="1857240"/>
            <a:chExt cx="8072280" cy="714600"/>
          </a:xfrm>
        </p:grpSpPr>
        <p:pic>
          <p:nvPicPr>
            <p:cNvPr id="859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57240"/>
              <a:ext cx="8072280" cy="7146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60" name="타원 18"/>
            <p:cNvGrpSpPr/>
            <p:nvPr/>
          </p:nvGrpSpPr>
          <p:grpSpPr>
            <a:xfrm>
              <a:off x="859680" y="2139480"/>
              <a:ext cx="225360" cy="231480"/>
              <a:chOff x="859680" y="2139480"/>
              <a:chExt cx="225360" cy="231480"/>
            </a:xfrm>
          </p:grpSpPr>
          <p:pic>
            <p:nvPicPr>
              <p:cNvPr id="861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2" name=""/>
              <p:cNvSpPr/>
              <p:nvPr/>
            </p:nvSpPr>
            <p:spPr>
              <a:xfrm rot="10800000">
                <a:off x="942840" y="21956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3" name="직사각형 19"/>
            <p:cNvSpPr/>
            <p:nvPr/>
          </p:nvSpPr>
          <p:spPr>
            <a:xfrm>
              <a:off x="857160" y="19810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HY바다M"/>
                  <a:ea typeface="휴먼모음T"/>
                </a:rPr>
                <a:t>특수 학생 변별하기 및 가르치기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4" name="직사각형 16"/>
          <p:cNvSpPr/>
          <p:nvPr/>
        </p:nvSpPr>
        <p:spPr>
          <a:xfrm>
            <a:off x="285840" y="2786040"/>
            <a:ext cx="8572320" cy="33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380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적절한 행동을 학습하도록 돕기</a:t>
            </a:r>
            <a:r>
              <a:rPr b="1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행동 개선의 두 가지 전략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상담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응용행동분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451"/>
              </a:spcBef>
              <a:buClr>
                <a:srgbClr val="42445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코치와 시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451"/>
              </a:spcBef>
              <a:buClr>
                <a:srgbClr val="42445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상호작용과 협력을 증진시키기 위한 전략들 </a:t>
            </a:r>
            <a:r>
              <a:rPr b="1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일반학생만큼 특수학생도 자주 호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협동학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또래 튜터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1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보조적 테크놀로지 활용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0-28T00:35:24Z</dcterms:modified>
  <cp:revision>363</cp:revision>
  <dc:subject/>
  <dc:title>PowerPoint Template</dc:title>
</cp:coreProperties>
</file>