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BBC32-CB06-44A7-A91B-8DD0FBCAF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03413-BEDC-46D8-BD47-3F99D88D1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2C365-9F35-4054-98EC-41FD67E08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80F15-B8EB-4832-AA40-B6CA2D0F4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F3FAB-4420-4F5C-A586-EC2AA2AE4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FCF36-A81A-477F-84D7-651BB1229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E8064-683A-4452-BDA6-EB0A330AD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F8F94-8A8B-4621-91E8-6050BAA0B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CF3BA-BFF7-4574-9A12-E243175D3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410CC-321E-477F-AC06-845450506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8EED3-AD0B-4D27-A25E-F7A77D168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90C8D-F69E-426E-A07F-3B3A2AF22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15F79-0D38-4B57-9AB8-9C0DEF999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09172-5A09-4377-A072-CEDE5A293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08941-3A23-4098-8AEE-4B7C0BCAF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70244-BEF8-4775-B182-56F3FEBD4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A7570-A7CA-4472-A8AD-0F760E3D5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BF7C5-38DC-4C45-977B-28D308B8B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71D0F-D8E5-4668-9B85-B803C9F1F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0F927-2788-40BF-B279-BFAEF2B1C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3A8CB-8FA6-4171-8A15-39BB7C2D6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14C39-E45E-41BB-829C-31A7571C3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603AF-BE86-41E0-93EB-B613974E9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202E9-7D1F-467F-B571-0CC75CD23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DBA22-B81F-46ED-916D-08167866DC7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99414-40EB-479F-8EBD-C4E88F2FE81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서울재활병원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시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출근시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8:40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심시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12:30~1:30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퇴근시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6:0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요일 오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분 예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년치료실은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분까지 가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해야한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복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색 면바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흰색 카라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단화 및  운동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실습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습기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총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인치료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.2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아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청소년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통증치료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씩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rotation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불시에 교육이 있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균 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회정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기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숙박 – 근처 고신원 가격대 다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략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0~ 4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심 – 병원내 직원 식당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달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Report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기본 주마다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그 외 파트마다 선생님이 내주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4:02:00Z</dcterms:created>
  <dc:creator>SEC</dc:creator>
  <dc:description/>
  <dc:language>en-US</dc:language>
  <cp:lastModifiedBy>SEC</cp:lastModifiedBy>
  <dcterms:modified xsi:type="dcterms:W3CDTF">2009-04-09T04:09:25Z</dcterms:modified>
  <cp:revision>2</cp:revision>
  <dc:subject/>
  <dc:title>서울재활병원</dc:title>
</cp:coreProperties>
</file>