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139C0-9403-4305-A53B-7AE707D18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A1E24-34A0-4A13-85E3-F15AA4301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6FA0D-D484-4371-9DF4-9B01F2213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7EB2F-9E01-47F2-9137-997830A54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030D3-4027-4AD3-8C3F-398F0D7BE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CF1A6-EF1D-4713-8E04-5FFB07DB6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DE826-79DE-4CE6-A434-3D7BAD31F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EF626-C9A0-4421-980F-6E8EF225E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F3B58-F6E6-43FD-B7F1-FAB075323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5B4E9-1DC0-47E2-8CE4-875BE9485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74879-3318-4717-A90C-8307958C3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F926C-30E3-466C-97E1-87E01032B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BFE16-CC1D-465C-ADB2-E4FD1260E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70183-C8A6-467A-9942-AEA146480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28B2E-D061-4B14-9485-06E9BC307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B2E2C-3F11-4A5F-80FE-E471EABD8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2B81B-A343-42C6-A012-737BDE9C5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6D4E8-F0DC-422A-9FD8-FA8008BEF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DB76B-BE2B-427F-B72E-9627009F6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CE443-37B5-4BAF-B26F-BC49ED4AD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FC0F5-0881-4A88-99EF-443E7C8F8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8DFA7-7F38-4813-B531-5CB4CB058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1EB1A-180A-4080-A98A-8B0BB89E1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7F7C9-0B77-4576-9958-2FA8FF175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7EC71-CDCC-4FA6-BFCF-2C5526B4F97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ADA11-ECF2-41FD-A948-35FBBB9A5A9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1</a:t>
            </a:r>
            <a:r>
              <a:rPr b="1" lang="zh-CN" sz="4800" spc="-1" strike="noStrike">
                <a:solidFill>
                  <a:srgbClr val="ffffb7"/>
                </a:solidFill>
                <a:latin typeface="굴림"/>
              </a:rPr>
              <a:t>장 </a:t>
            </a:r>
            <a:br>
              <a:rPr sz="4800"/>
            </a:br>
            <a:r>
              <a:rPr b="1" lang="en-US" sz="4000" spc="-1" strike="noStrike">
                <a:solidFill>
                  <a:srgbClr val="ffffb7"/>
                </a:solidFill>
                <a:latin typeface="굴림"/>
              </a:rPr>
              <a:t>21</a:t>
            </a: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세기 한국교육의 방향과 전략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0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사정과 교육과정 운영 전략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0074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근접발달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Zone of Proximal Development: ZPD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이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Vygotsky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와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Piaget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이론의 차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역동적 접근방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상호작용의 중요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비계설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눈높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연습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습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효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오늘날 미국의 교육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검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훈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검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기존의 지능검사에 대한 재해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장애아동의 가능성 탐색과 적용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일본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개혁국민회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을 바꾸는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제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풍부한 인간성 육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정교육의 중요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창의적 재능 개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인중심의 가치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새로운 학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 문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부과학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2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세기 교육신생플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 중점 전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레인보우 플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영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8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교육개혁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92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이후의 교육개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노동당의 교육개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보수당과 함께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 정당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파시즘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국유화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회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79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대처 정권에 패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1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재집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기회의 확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잠재능력의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탁월한 학업성취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세계 교육개혁의 시사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개혁법 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을 통한 지속적이고 체계적인 지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업성취보장과 상향 평등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간의 학력격차 최소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의 표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부모의 권리확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의 자율권과 책무성 요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취약 학교의 지원과 문책 공존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주요 문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제적 경쟁력 강화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기주도적 수업 기회 확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교육 위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교육의 동기부여 노력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교육 문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권을 위한 다면적 노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개혁의 후유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정지표와 교육지표의 분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기본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업성취 보장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생교육자 인식 고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교육의 내실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율과 책무성 공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동체적 접근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부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지역사회의 동참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민도 인식 수준 함양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기본 원칙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의 평등성과 수월성 보장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자율성과 책무성 제고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민주성과 전문성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자주성의 존중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의 논리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소극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와 학생의 발달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적극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운영의 효율성 제고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지출성의 생산성 보장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원 및 연구인력에 대한 우선적 투자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선택과 집중을 통한 경쟁력 강화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규제의 질적 적합성 함양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행정기관의 역할과 기능의 재정립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장기계획에 의한 일관성 있는 정책 추진 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나오는 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국가 경쟁력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한국의 역할과 위상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한국교육의 방향과 원칙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교원의 사회경제적 지위 향상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가정교육과 예절교육 강화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경제교육 강화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접발달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Zone of Proximal Development: ZPD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접발달대와 인간의 일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증류수와 불순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정교육과 학교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의 역할에 대하여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굴림"/>
              </a:rPr>
              <a:t>21</a:t>
            </a: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세기 사회의 변화와 교육적 요구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지식기반 사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생학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학업성취에 대한 태도와 감성의 변화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세계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인적자원 개발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국가경쟁력 재고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국의 아동낙오방지법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시장 개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고령화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복지정책의 변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성숙된 민주사회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: postmodernism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.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미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아동낙오방지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96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초•중등교육법의 최근 재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표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의 학업성취 향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미국의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4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년 장애아교육진흥법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DEA : IDEIA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서류업무의 간소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부분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EP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단기목표 삭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포괄적인 다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EP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계획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3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질 높은 교사와 복수자격 취득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 선별 및 교육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별 전에 교육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assessment)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의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br>
              <a:rPr sz="4400"/>
            </a:b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No Child Left Behind: NCLB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1. 196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제정된 초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교육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Elementary and Secondary Education Act: ESEA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최근 개정판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2001, 2002)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제정 목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표준 척도의 제시와 함께 책무성 있는 계획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효과가 검증된 프로그램의 사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의 교직 수행능력을 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교교육에서 아동간의 학력격차 최소화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제정 배경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미 헌법에는 교육에 대한 조항이 없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교사의 수행능력은 교육과정 운영과 직결됨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경제논리보다 학교교육의 가치를 보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조직은 발전을 전제한 단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많은 교육자를 놀라게 했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AYP (Adequate Yearly Progress):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주와 학교간 경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교사의 능력 향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학생의 성적 행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외국 학생과의 경쟁에서 뒤지고 있음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AYP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술적 보조 수용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 발전 계획 작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 보충수업 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정 계획안 제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 관리 구조 수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관선 이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 및 직원 이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2014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까지 읽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과학 등의 모든 교과 적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NCLB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굴림"/>
              </a:rPr>
              <a:t>특수교육에 제시하는 시사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모든 학생을 위한 양질의 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유능한 교사 양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예외가 없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중복장애의 탄력적 적용 준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본주의와 기능주의의 마찰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1T00:22:45Z</dcterms:created>
  <dc:creator>XPuser</dc:creator>
  <dc:description/>
  <dc:language>en-US</dc:language>
  <cp:lastModifiedBy>XPuser</cp:lastModifiedBy>
  <dcterms:modified xsi:type="dcterms:W3CDTF">2008-09-17T02:17:35Z</dcterms:modified>
  <cp:revision>9</cp:revision>
  <dc:subject/>
  <dc:title>제 1장  21세기 한국교육의 방향과 전략</dc:title>
</cp:coreProperties>
</file>